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EA44-060A-4E54-961B-6854623BA19F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3) Implementation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arly Binding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data manipulation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a data structures: typically C+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ingly SDAI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ema specific bi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nient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ema specific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ster (schema not loaded at run ti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te Binding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data manipulation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a standard library functions: typically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quently SDAI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ic schema independent bi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exible co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technology indepen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wer (schema loaded at run ti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than one schema can be acc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anipulation: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epository contains live STEP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“some form of” DM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“is defining” a standard API for manipulating such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Data Access Interface (SDAI) - Part 2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us language bindings e.g. C and C+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ata Manipulation: SDA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yet fully standardi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versions impleme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SDAI is strongly recommen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data access/mani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 toolkit as market develo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essential for Basic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 for open direct access to a PM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me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-Tools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ST Develo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PM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ED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STEP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aseLi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DTech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EC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urostep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IS Toolbo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Generic and Tailored versi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1981080"/>
            <a:ext cx="8153280" cy="3124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2835360"/>
          <a:ext cx="7848720" cy="141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35360"/>
                    <a:ext cx="784872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238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steptools.com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t of software development tools which handle the complexities of the STEP standar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gration with existing CAD tools and databases, cross-platform portabil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mitment to meeting new STEP standard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514600"/>
            <a:ext cx="8626680" cy="23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vides SDAI C and ROSE C++ programming libraries that can be used to build software that works with STEP data in object-oriented databases, relational databases and traditional fil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600200"/>
          <a:ext cx="7391160" cy="51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39116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xpand on the role of STEP implementation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dentify some candidate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, EXPRESS-G, EXPRESS-X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 and EXPRESS-X compil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enerate C++ classes, SDAI data-dictionaries, IDL descriptions, and 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-X Mapping Eng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map changes between information model in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-G too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nstructs diagrams from any EXPRESS information model and display/rearrange using a graphical 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1905120"/>
            <a:ext cx="8686800" cy="3429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8229600" cy="1144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86240" y="4495680"/>
            <a:ext cx="40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pmtech.jotne.com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DM Prod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developerS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prehensive package of tools for application developers, system integrators, data model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visual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RESS-G based tool for creating and visualising data mod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DM Prod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modelConve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s EXPRESS-X to convert data from one EXPRESS schema to an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modelChec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alidates a data set against one or more EXPRESS schem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DM database designed for storing and manipulating data modelled in EXPR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lly supports (and significantly expands) the scope of SDA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nctions for database supervision and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ables multi-user ac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be used as a linkable libra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 and JAVA late bi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++ early bi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DAI repository can be persistent or trans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ad and write Part 21 fi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ompiler to validate schema (results stored as dictionary mod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DAI fully compatible with the standar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schema and data can be presented in HTML form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981080" y="1600200"/>
          <a:ext cx="5105520" cy="478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600200"/>
                    <a:ext cx="5105520" cy="47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76312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EP caselib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52720" y="358128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prostep.de/ps_e_welcome.h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4343400"/>
            <a:ext cx="2286000" cy="22096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PDTec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PRESS, EXPRESS-C, and EXPRESS-X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erate efficient applications out of these specification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RESS eng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ecute EXPRESS and EXPRESS-C specific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 functional and/or object-oriented programm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ata adapt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straint check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lly verify data against EXPR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EXPRESS-X engin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eclarative mapping (latest EXPRESS-X specifica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AP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nect to your application with Java, Tcl, C++, C, Visual Basic, etc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utility librari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igh level functions significantly reduce the programming effor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U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ccess to all components of the Toolki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cludes editor, instance explorer, integrated instance editor, project manager.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debugg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races EXPRESS, EXPRESS-C, and EXPRESS-X based application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Validate the semantical correctness of EXPRESS integrity constraint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66260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 Toolbo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s an CIS interface which can easily be integrated into an applic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data to be managed natively, with import or export as STEP files that conform to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++ class libraries generated from the CIS/2 sch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raries provide an API to the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urostep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ric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IS Toolbox v1.0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ffff"/>
                </a:solidFill>
                <a:latin typeface="Times New Roman"/>
              </a:rPr>
              <a:t>2500 Eu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oolboxes for other schemas by requ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inSTEP (free!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1981080"/>
            <a:ext cx="7483680" cy="41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ersion 3.0 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March 1998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based on NIST class librar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collection of tools dealing with STEP (EXPRESS) running on top of Windo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mplete integration within Windows 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iewing, editing, printing etc. of EXPRESS fi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yntax checking by fedex pars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++ code generation from EXPRESS by fedex_plu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TML generation from EXPRESS by exp2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University of the Federal Armed Forces, Mun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67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70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78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81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84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85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  <a:ea typeface="Times New Roman"/>
              </a:rPr>
              <a:t>EXPRESS </a:t>
            </a: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Modelling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nguage sensitive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ull syntax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isuali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pically EXPRESS-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ombinations of th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STEP Implementation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omp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file par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Mani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sitory and AP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binations of th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5029200"/>
            <a:ext cx="7620120" cy="106884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ch tools allow reliable translators to be implemented quickly and more cheaply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EXPRESS Compil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bugging and documentation re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su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u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pport for IS version of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, INVERSE, and UNIQUE suppor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tes code for incorpor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 data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Part 21 File Pars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sure full support for the current STEP Part 21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iance with EXPRESS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ven by compi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de or a compiler library to read and to write conforming STEP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1:41:29Z</dcterms:created>
  <dc:creator>Alastair Watson</dc:creator>
  <dc:description/>
  <dc:language>en-US</dc:language>
  <cp:lastModifiedBy>Alastair Watson</cp:lastModifiedBy>
  <cp:lastPrinted>1999-06-19T15:36:00Z</cp:lastPrinted>
  <dcterms:modified xsi:type="dcterms:W3CDTF">2000-04-01T21:27:38Z</dcterms:modified>
  <cp:revision>23</cp:revision>
  <dc:subject/>
  <dc:title>CIS/2  Implementation Workshop</dc:title>
</cp:coreProperties>
</file>